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ED5-4AB6-468F-A813-B53898C7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619-C957-4CCB-9F3D-C01FB721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23F-3768-438B-9F25-FDD90F38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EAE-45FE-4B73-B2A4-750211C5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0274-4488-4E6B-B77E-28E76C7E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BF91-37F7-4D55-B82E-002C38B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D4AC-1A58-46B5-AA4F-707EFD2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CF3E-BFFF-43AB-A908-53C9BC02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BF34-1183-48AE-A73E-8FAB9EF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3F2A-CF95-4F99-84EC-9BACA3F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AD16-FA5D-4EA6-94B9-C29026AA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219-C5A8-45F9-91CE-08575271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A46E-2D9C-46E4-84F4-7463985E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D916-5018-48B3-A48F-EF5A4B8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A218-7135-4615-B12A-D4FEB1FC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1FC6-A425-45B1-B0AD-2BD4EB6F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EFAC-C776-45EF-B059-A5EB7A87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ECA-A366-4D2D-8EAF-CE28FEDF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7B3-FB90-4592-AA4B-F5A4A4C0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2EE-86FF-41FB-BAA3-8F123293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3B4-4554-4DB9-8CF5-89D1DFF2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F3E-CFAE-4D90-AE83-C0DC9855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973-EA36-4785-9BC2-DE21B506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061-1855-446C-B1DD-02BCE915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56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7c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b56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E14B-DC7B-4A20-AD2C-2FF19C8321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dde9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6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56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7c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b56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55D0-72EA-442B-A1E0-6E458F22ED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38cae"/>
                </a:solidFill>
                <a:latin typeface="Times New Roman"/>
              </a:rPr>
              <a:t>Денежная реформа 1991 года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38cae"/>
                </a:solidFill>
                <a:latin typeface="Arial"/>
              </a:rPr>
              <a:t>Реформа 1991 г. получила название «павловской» - по имени премьер –министра СССР В.С. Пав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8cae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638cae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38cae"/>
                </a:solidFill>
                <a:latin typeface="Arial"/>
              </a:rPr>
              <a:t>Предполагалось провести обмен купюр достоинством в 50 и 100 руб. образца 1961 на купюры тех же номиналов образца 1991г в течении 3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3164" t="0" r="0" b="0"/>
          <a:stretch/>
        </p:blipFill>
        <p:spPr>
          <a:xfrm>
            <a:off x="900000" y="1989000"/>
            <a:ext cx="33022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1:55Z</dcterms:modified>
  <cp:revision>36</cp:revision>
  <dc:subject/>
  <dc:title>Денежные реформы России</dc:title>
</cp:coreProperties>
</file>